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490-1ECF-452A-A5DC-CAAD4159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EC6-B3BF-4B2D-9F77-8241623B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908-EAF0-437E-8570-618EE876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5D5-0031-499E-9441-634A6D49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933-2EBB-4B59-AF1C-0B6D54F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971-14A6-42B8-A903-95C2A9A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17B-948E-4978-B988-8F46B2BB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A8C-BAD4-4765-BB01-9B96948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B17-48C2-40E6-ADB5-958C886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638-E222-430D-BA1E-49DCECA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DF8-905A-41CF-8E5E-2C4CB12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DC5-B7B7-449E-90C2-8ABC655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072-1FE7-4FD5-A390-CBAA98EFF09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219320"/>
            <a:ext cx="7773840" cy="1440"/>
          </a:xfrm>
          <a:custGeom>
            <a:avLst/>
            <a:gdLst/>
            <a:ahLst/>
            <a:rect l="l" t="t" r="r" b="b"/>
            <a:pathLst>
              <a:path w="4897" h="1">
                <a:moveTo>
                  <a:pt x="0" y="0"/>
                </a:moveTo>
                <a:lnTo>
                  <a:pt x="4896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14600" y="1067040"/>
            <a:ext cx="4038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ugestaltung Tarifrecht öffentlicher 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001000" y="5943600"/>
          <a:ext cx="5461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943600"/>
                    <a:ext cx="54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vertrag zur Überleitung der Beschäftigten im öffentlichen Diens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rag Kurt Mart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handlungskommission 10. Juni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3C6-3ED1-4AEE-931A-C6093CD64F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Tarifru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inderzuschläge für alle bis zum 31.12.2005 geborenen Kinder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 Redaktionsverhandlung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estlegung unschädlicher Unterbrech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für übernommen Auszubildende, SchülerInnen, PraktikantI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bfindung ab vollendeten 16. Lebensjah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E47-B962-4FEE-A984-0FA2310B557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gütungsgruppenzulag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ver.d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gütungsgruppenzulagen werden auch zukünftig gezah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Forderung Arbeitgeb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eine Zahlungen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ießen in das Vergleichsentgelt e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ahlung nur für EG 3, 5, 6, 8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unter bestimmten Voraussetzung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65E-A83E-4CDB-877B-B02F78DEF6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gütungsgruppenzulag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tzstandzulage für alle die derzeit Zulage erhal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hne vorausgehenden Fallgruppenaufstieg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hlung erfolgt zum individuellen Zeitpunkt wenn Hälfte der 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Anschluss an Fallgruppenaufstie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noch nicht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ächsthöhere EG zum individuellen Zeitpunkt wenn Hälfte der Zeit erfüllt - Keine Zulage me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llgruppenaufstieg bereits erfolg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ulage zum individuellen Zeitpunkt wenn Hälfte der Gesamtzeit erfül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D7C-DB4B-4F7F-8409-1B8D9FB93AD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ver.di-Forder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fallklausel für den Fall, dass keine neue Entgeltordnung bis zum 31.12.2007 verhandelt 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gefallene Bewährungsaufstiege werden für alle ab 1.10.2007 nachgeholt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Arbeitgeber-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eichwertigkeit der Gegenfo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ternativ: 60 % Jahressonderzahlung für alle,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gfall Strukturausgleich oder Verschiebung der Tarifrunde um 2 Jahre (Ab 1.1.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821-B5D5-4A67-B9D5-904B000E3A3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ückfallklausel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zicht auf Rückfallklau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24D-11C8-4F7E-9073-55DF4623FEF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ene 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ückfallebene Bereitschaftsz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malzahlung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 nicht endverhandelte Themen aus B4 und 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r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tszeitk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Einspa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ausgleiche KR - wird heute verhand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6B9-DA5B-41A0-B274-F7E589459CE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s Vorge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Redaktionstermine vereinba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4.06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 TV öD - allgemeiner Abschnit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Arbeits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e Lenkungsgruppe - Klä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ener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.06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N Abstimmungsproz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TK-Term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. - 15.09.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rnati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5. - 07.09. 2005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bhängig von Bundestags-Wa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B7E-3F11-4974-B215-F9F027AA8EB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tzung der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handlungskommissio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10. Juni 2005 - Berlin -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640080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B0E-27E5-48EE-9E89-B29F0D5AA18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Überblick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VöD-Ord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bisher vorliegenden Texte zum TV-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aktionsverhandlungen TVöD haben am 07.06. 2005 bego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iederung TVöD unter Punkt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nach Abschluss der Redaktionsverhandlungen notwend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V-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ausgleiche, us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cheinung: ca. 3 Wo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217-6E58-4180-A30A-057DA8E4DB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rifrunde 2005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ung über neues Tarifre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malzah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jährige Überlei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Stufensteigerung ab 01.10.2007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nahme: ArbeiterI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291-6253-4822-9955-C1508F0C1C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zen über Inhalt der Vereinbarung v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Februar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uche der Arbeitgeber zusätzliche Einsparungen zu realisie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07B-BFDF-4942-9661-EF301F66FF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</a:t>
            </a:r>
            <a:br>
              <a:rPr sz="20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- Bewährungsaufstie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3, 5, 6,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nicht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öhergruppierung erfolgt zum individuellen Zeitpunkt, wenn Bewährung zur Hälfte erfül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 2, 9 -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ährungsaufstiege sind eingearbei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eib in den jeweiligen 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Bewährungsaufstieg bei Überleitung noch nicht vollzo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teilsausgleichsregelung erforderlic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56C-2A5B-4749-8BB7-AD56D80790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sition Arbeitge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atorium Bestandteil der Gesamteinig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: Lösung nur mit K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KA: Keine Änderung weg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u hoher Kos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ND: „Paket-Angebot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ffnung Morato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nahme der „Stufe-3-Regel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ED6-9B07-407C-866D-AF3D238644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tor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cheidung Lenkungsgruppe am 31.5. / 1.6.2005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 des Paket-Ange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forderung an VKA: Gleiche Rege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nahme durch VKA am späten Abend des 1.6.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F7E-56C1-43B3-8244-FD070CED4D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er.di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bis zum 31.12.2005 geborenen K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ientierung an Anspruchsvoraussetzungen Kindergeld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BEF-0071-4527-938F-42EDEE7C09F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aktionsverhandlunge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tere Knackpunk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nderbezogene Anteile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beitgeber-For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dynamisierte Zah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für ununterbrochene Zahlung Kinder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alle übergeleiteten Beschäftigten und deren Kinder die bis zum 31.12.2005 gebor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findungsmög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5DE-2B80-4A75-ABBF-AFCFDA27790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eugestaltung Tarifrecht öffentlicher Dienst - Verhandlungskommission 10.06.200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5:27:28Z</dcterms:created>
  <dc:creator>Niko Stumpfögger Ressort 1</dc:creator>
  <dc:description/>
  <dc:language>en-US</dc:language>
  <cp:lastModifiedBy>deraabe</cp:lastModifiedBy>
  <cp:lastPrinted>2005-06-09T15:17:27Z</cp:lastPrinted>
  <dcterms:modified xsi:type="dcterms:W3CDTF">2005-06-09T15:51:26Z</dcterms:modified>
  <cp:revision>189</cp:revision>
  <dc:subject/>
  <dc:title>Wozu der Kongress?</dc:title>
</cp:coreProperties>
</file>